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506-EAF2-464A-AF24-F59933EF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1586-0EA5-47E7-A553-21E6AB8E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EB3-A30F-4A23-BC08-238FB868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6A1-3B5F-48B1-AFD8-280D63BA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3AD-9DED-429F-89D1-EBD04D42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DF4-4F21-44F1-947A-EDBCA7B0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91A-94DB-4D08-B307-D312BA71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2DB-451A-46D5-A3AC-3EAE52D6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53B-FC68-42E2-9C58-FBF3245C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F4D-455A-44BC-B4BF-8818DE91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2E6-FABF-4758-9E95-7A2FF12C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4695-2E4C-455F-82CE-178E49DE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6575-ED41-4986-9D42-DDB402D0E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ffthemark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logster.edu.com/" TargetMode="External"/><Relationship Id="rId2" Type="http://schemas.openxmlformats.org/officeDocument/2006/relationships/hyperlink" Target="http://www.waterencyclopedia.com/Mi-Oc/Ocean-Currents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228600"/>
            <a:ext cx="2133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hat Matters Most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387160" y="228600"/>
            <a:ext cx="659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uhaus 93"/>
              </a:rPr>
              <a:t>Density in the Real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2560" y="1371600"/>
            <a:ext cx="26906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uhaus 93"/>
              </a:rPr>
              <a:t>Occu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orolog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log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anogra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yc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itation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leboto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atolog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air balloon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plan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llurg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ralog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ation 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4416480"/>
            <a:ext cx="27590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uhaus 93"/>
              </a:rPr>
              <a:t>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detail will you contribu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r 1: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r 2: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r 3: 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r 4: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04080" y="1295280"/>
            <a:ext cx="31399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uhaus 93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dens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 of what your occupation does and what type of training do you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density used in this occup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cience skills needed for this occup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graphy/C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5480" y="1143000"/>
            <a:ext cx="259092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9880" y="3962520"/>
            <a:ext cx="161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ffthemark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523880"/>
            <a:ext cx="19051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team needs to research the occupation assigned to you and find out how density is used as a property of matter by individuals that do this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87160" y="533520"/>
            <a:ext cx="659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uhaus 93"/>
              </a:rPr>
              <a:t>Density in the Real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228600"/>
            <a:ext cx="2133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hat Matters Most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4800600"/>
            <a:ext cx="237780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uhaus 93"/>
              </a:rPr>
              <a:t>Glog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team is to create a G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review the handout on how to make a G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1523880"/>
            <a:ext cx="25304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logster.edu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aterencyclopedia.com/Mi-Oc/Ocean-Curren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666880" y="1447920"/>
            <a:ext cx="2819520" cy="3352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19920" y="4876920"/>
            <a:ext cx="335268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uhaus 93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ppt slide on your top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ve slide as jp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pg to Glog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write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867280" y="2743200"/>
            <a:ext cx="274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6:02:18Z</dcterms:created>
  <dc:creator>tech8</dc:creator>
  <dc:description/>
  <dc:language>en-US</dc:language>
  <cp:lastModifiedBy>tech8</cp:lastModifiedBy>
  <dcterms:modified xsi:type="dcterms:W3CDTF">2010-08-06T16:36:01Z</dcterms:modified>
  <cp:revision>2</cp:revision>
  <dc:subject/>
  <dc:title>Slide 1</dc:title>
</cp:coreProperties>
</file>